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A79-BD12-4E4A-A43E-81B902A6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CCE-87D0-4A6E-9721-52805EAC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34D-5962-4E08-A6A9-7F3395F4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76E-F827-453B-8467-43C4A520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CFAD-F3AF-4274-91D7-0214BE67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48B5-2F6C-4A1A-944F-412F87C9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5A75-1838-4B08-BE81-AC227BA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5D3E-93B4-424A-BAC5-79E97D05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D97F-72AD-4B37-8ED7-C9C9E18C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FE34-48A7-440F-B67E-03FC72C6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5968-0B19-491B-9C12-53DBAD7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BCC-7707-40D6-881E-410B78E2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F7C-3064-4BB3-A724-3B78FCBC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BEF4-176C-4A78-9AE2-B240D45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604F-CF60-42C3-A5F0-CE6EB8D5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15EE-AB50-43E1-91D1-ABFB54A7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C64E-4C1E-4E02-B70F-D9C13464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345-4F16-402B-9041-D57683D3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4688-1151-4652-A329-FD321A25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F51-5FB5-494A-A8AA-D1916D44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EC0-4046-41B6-B8DA-ECBBDBC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0D0-1F40-4F84-A90C-F5E5FA46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5BC-4FCB-4E1E-8B2D-D9C6A81D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437-D6E9-4B36-A1D3-B6B9E9C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7F5-0359-4A84-A339-953B579F15E3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9E4-2522-4E50-837B-87DA3782140E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660066"/>
                </a:solidFill>
                <a:latin typeface="Arial"/>
              </a:rPr>
              <a:t>Rapoarte si proportii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000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lev ,</a:t>
            </a:r>
            <a:r>
              <a:rPr b="0" lang="ro-RO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ristian B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s. a VI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8c0039"/>
                </a:solidFill>
                <a:latin typeface="Arial"/>
              </a:rPr>
              <a:t>Ce leaga matematica de realitatea inconjuratoar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 marimi fizice exprimate prin rapoarte ati studi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=d/t; m=G/g;k=F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ormati si  alte rapoarte cu marimi cunos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lemente pentru initierea altor </a:t>
            </a:r>
            <a:r>
              <a:rPr b="0" lang="ro-RO" sz="3600" spc="-1" strike="noStrike">
                <a:solidFill>
                  <a:srgbClr val="8c0039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iscuti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 rapoarte din practic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atea realizarii unui eveniment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a unei solut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ul unui ali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a unui d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obabilitatea realizarii unui eveni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raportul dintre numarul cazurilor favorabile si numarul cazurilor posib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: intr-o urna se gasesc 14 bile albastre si 7 bile rosii. La extragerea unei bile, probabilitatea ca acesta sa f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lbastra, este:14/21=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340000" y="549000"/>
            <a:ext cx="6400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osie: 7/21=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eagra: 0/2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657600" y="2114640"/>
            <a:ext cx="18288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cara unui dese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raportul dintre distanta pe desen(</a:t>
            </a:r>
            <a:r>
              <a:rPr b="0" i="1" lang="en-US" sz="3200" spc="-1" strike="noStrike">
                <a:solidFill>
                  <a:srgbClr val="3333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 distanta pe tere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Problema : Calculati distanta dintre doua localitati, pe teren, daca pe harta sunt 5 cm iar scara hartii este 1/500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artaRomania"/>
          <p:cNvPicPr/>
          <p:nvPr/>
        </p:nvPicPr>
        <p:blipFill>
          <a:blip r:embed="rId1"/>
          <a:stretch/>
        </p:blipFill>
        <p:spPr>
          <a:xfrm>
            <a:off x="2627280" y="981000"/>
            <a:ext cx="622764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=d/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 500 000=5/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5·5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2 500 000(c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25 k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21:25Z</dcterms:created>
  <dc:creator>user</dc:creator>
  <dc:description/>
  <dc:language>en-US</dc:language>
  <cp:lastModifiedBy>Valentin</cp:lastModifiedBy>
  <dcterms:modified xsi:type="dcterms:W3CDTF">2010-04-26T23:16:27Z</dcterms:modified>
  <cp:revision>28</cp:revision>
  <dc:subject/>
  <dc:title>Rapoarte si proport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