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5B4-09A0-4274-A064-2419D864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C5A-ED0B-4992-95F7-72601B8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E2D-D2B4-4840-AA9C-98CF5E65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642-1D94-4DAA-8ACF-2D4EA065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5989-64AA-4E76-8241-279E1C82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3BA9-5327-496C-BE33-4B4EBAE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63F-6DEA-4304-A0E8-EEFB98D9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F6D1-1553-4D40-AB4A-2F52C8B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4F94-864A-44A6-9280-48652014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3D78-683D-4685-BFD3-4A3C1B41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88B2-1976-418B-B914-F338D1E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670-3130-43E3-897D-6797694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8CEA-125A-4BEC-9E12-C8D23FC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EE57-420A-44C1-90F9-C75A7594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8DFA-897E-4D13-8C25-55AFE50B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26E3-CE3C-4E57-BE3B-F8225D75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64E-8BBB-4648-91A9-6147BFB3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34E-B351-41C7-9EA1-11B6CE67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D94-C0CF-4D3C-866A-D118DB45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431-88E5-4043-BD6C-9B32183F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BD4-B727-4E99-A4B3-302CE68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3A8B-7379-41A1-B3D4-4039417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8DF-3D7D-4313-A83B-E8BE95D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BDB-0593-4E2D-9FCB-4B2A0429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9A2-9EC2-4A22-A0D0-9E47F9644944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0FD1-517B-45D3-824F-D9E10F64A0F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0066"/>
                </a:solidFill>
                <a:latin typeface="Arial"/>
              </a:rPr>
              <a:t>Rapoarte si proportii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lev ,</a:t>
            </a:r>
            <a:r>
              <a:rPr b="0" lang="ro-RO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ristian B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s. a V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c0039"/>
                </a:solidFill>
                <a:latin typeface="Arial"/>
              </a:rPr>
              <a:t>Ce leaga matematica de realitatea inconjuratoar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 marimi fizice exprimate prin rapoarte ati studi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d/t; m=G/g;k=F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ati si  alte rapoarte cu marimi cunos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lemente pentru initierea altor </a:t>
            </a:r>
            <a:r>
              <a:rPr b="0" lang="ro-RO" sz="3600" spc="-1" strike="noStrike">
                <a:solidFill>
                  <a:srgbClr val="8c0039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uti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 rapoarte din practi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atea realizarii unui evenimen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a unei solut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ul unui ali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a unui d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babilitatea realizarii unui eveni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raportul dintre numarul cazurilor favorabile si numarul cazurilor posi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: intr-o urna se gasesc 14 bile albastre si 7 bile rosii. La extragerea unei bile, probabilitatea ca acesta sa f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lbastra, este:14/21=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40000" y="549000"/>
            <a:ext cx="640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osie: 7/21=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eagra: 0/2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657600" y="2114640"/>
            <a:ext cx="18288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ara unui des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raportul dintre distanta pe desen(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 distanta pe ter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Problema : Calculati distanta dintre doua localitati, pe teren, daca pe harta sunt 5 cm iar scara hartii este 1/5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artaRomania"/>
          <p:cNvPicPr/>
          <p:nvPr/>
        </p:nvPicPr>
        <p:blipFill>
          <a:blip r:embed="rId1"/>
          <a:stretch/>
        </p:blipFill>
        <p:spPr>
          <a:xfrm>
            <a:off x="2627280" y="981000"/>
            <a:ext cx="622764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=d/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 500 000=5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5·5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 500 000(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21:25Z</dcterms:created>
  <dc:creator>user</dc:creator>
  <dc:description/>
  <dc:language>en-US</dc:language>
  <cp:lastModifiedBy>Valentin</cp:lastModifiedBy>
  <dcterms:modified xsi:type="dcterms:W3CDTF">2010-04-26T23:16:27Z</dcterms:modified>
  <cp:revision>28</cp:revision>
  <dc:subject/>
  <dc:title>Rapoarte si proport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