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14B-9E7A-435F-BFF0-3CF9569F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72D-325E-42EA-A9B7-763BA096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761-4BC9-4496-A4B2-4FFC0F3C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2B4-340C-463C-9764-11045B37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7111-C352-468D-892E-57A372AF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F7F4-75B1-4510-B082-D88E7082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2F49-1B99-47E0-80DD-EA3031E4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66A9-5967-4046-BB0E-DF72AE54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CEED-3FD8-4F9B-92FB-0FB0B325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DB48-51AB-424A-BB7D-36AE5EDD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6843-F767-4B81-A455-47E2831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6934-E950-45A1-A616-0C256449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07A0-A3A5-4557-A1FC-F16ACC6D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BB7A-D74D-4FDF-AE94-41D952FB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5BC1-00A4-4583-A1B4-8FDC252C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92BE-A3EF-41B9-8CF0-CD5441D6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EF6C-7803-4382-87F7-8B68D203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CB3-4012-4B27-8FD8-2E44DC4A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D83-5CE7-4D86-9932-91C4DCF9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09C-FFA3-4827-B0B3-1E5ACD8C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97E-5ED8-49DC-AE88-81CB34C5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A68-E6D0-4669-AFD3-D8B21578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935-84B1-4EF5-92EF-6EBB7607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EA4-2281-4D19-A245-5FB3D6E1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4619-9761-4CFE-9108-B364DD85E554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1D80-4756-4AFB-AF4B-4D937EA98802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79640" y="1052640"/>
            <a:ext cx="5473800" cy="2503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rush Script MT"/>
              </a:rPr>
              <a:t>Rapoart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rush Script MT"/>
              <a:ea typeface="Brush Script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16360" y="3068640"/>
            <a:ext cx="302400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rush Script MT"/>
              </a:rPr>
              <a:t>Proportii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rush Script MT"/>
              <a:ea typeface="Brush Script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27640" y="5910120"/>
            <a:ext cx="2448000" cy="9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rush Script MT"/>
              </a:rPr>
              <a:t>Cretea Georgian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rush Script MT"/>
              <a:ea typeface="Brush Script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5778360"/>
            <a:ext cx="302400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Brush Script MT"/>
              </a:rPr>
              <a:t>Cls  VI  "B"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Brush Script MT"/>
              <a:ea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39640" y="476280"/>
            <a:ext cx="33116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ee00ee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ush Script MT"/>
              </a:rPr>
              <a:t>a           c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ee00ee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ee00ee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ush Script MT"/>
              </a:rPr>
              <a:t>---- = ----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ee00ee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ee00ee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Brush Script MT"/>
              </a:rPr>
              <a:t>b            d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ee00ee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Brush Script MT"/>
              <a:ea typeface="Brush Script M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12000" y="4941720"/>
            <a:ext cx="273528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0008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Brush Script MT"/>
              </a:rPr>
              <a:t>a si d= extrem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00080"/>
                  </a:gs>
                  <a:gs pos="100000">
                    <a:srgbClr val="000000"/>
                  </a:gs>
                </a:gsLst>
                <a:lin ang="5400000"/>
              </a:gra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80008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Brush Script MT"/>
              </a:rPr>
              <a:t>b si c= mez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800080"/>
                  </a:gs>
                  <a:gs pos="100000">
                    <a:srgbClr val="000000"/>
                  </a:gs>
                </a:gsLst>
                <a:lin ang="5400000"/>
              </a:gradFill>
              <a:latin typeface="Brush Script MT"/>
              <a:ea typeface="Brush Script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640" y="4437000"/>
            <a:ext cx="3672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</a:t>
            </a: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un extrem=    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                    </a:t>
            </a: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produsul mezilor 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                        </a:t>
            </a: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"supra" 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                     </a:t>
            </a: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celalalt extrem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3280" y="907920"/>
            <a:ext cx="36007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</a:t>
            </a: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un mez=        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              </a:t>
            </a: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produsul extremilor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                     </a:t>
            </a: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"supra"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                    </a:t>
            </a: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Brush Script MT"/>
              </a:rPr>
              <a:t>celalalt mez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Brush Script MT"/>
              <a:ea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63640" y="189000"/>
            <a:ext cx="4897440" cy="24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ee00ee"/>
                    </a:gs>
                  </a:gsLst>
                  <a:lin ang="5400000"/>
                </a:gradFill>
                <a:latin typeface="Brush Script MT"/>
              </a:rPr>
              <a:t>Proportii derivate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80"/>
                  </a:gs>
                  <a:gs pos="100000">
                    <a:srgbClr val="ee00ee"/>
                  </a:gs>
                </a:gsLst>
                <a:lin ang="5400000"/>
              </a:gradFill>
              <a:latin typeface="Brush Script MT"/>
              <a:ea typeface="Brush Script M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924280"/>
            <a:ext cx="221940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a        b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---- = ----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c        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84360" y="3716280"/>
            <a:ext cx="32576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Comic Sans MS"/>
              </a:rPr>
              <a:t>(schimband mezii intre ei)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Comic Sans MS"/>
              <a:ea typeface="Comic Sans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19640" y="4943520"/>
            <a:ext cx="19526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d         c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---- = ---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b        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86400" y="5661000"/>
            <a:ext cx="36576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Comic Sans MS"/>
              </a:rPr>
              <a:t>(schimband extremii intre ei)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372360" y="2060640"/>
            <a:ext cx="25905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 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b        d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---- = ----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 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Comic Sans MS"/>
              </a:rPr>
              <a:t>a       c 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Comic Sans MS"/>
              <a:ea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27640" y="4149720"/>
            <a:ext cx="2733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ee00ee"/>
                </a:solidFill>
                <a:latin typeface="Comic Sans MS"/>
              </a:rPr>
              <a:t>(inversand rapoartele)</a:t>
            </a:r>
            <a:endParaRPr b="1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ee00ee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3068640"/>
            <a:ext cx="44956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00ee"/>
                </a:solidFill>
                <a:latin typeface="Times New Roman"/>
              </a:rPr>
              <a:t>x1      x2       x3         x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00ee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00ee"/>
                </a:solidFill>
                <a:latin typeface="Times New Roman"/>
              </a:rPr>
              <a:t>---- = ---- = ---- = ...=---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00ee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00ee"/>
                </a:solidFill>
                <a:latin typeface="Times New Roman"/>
              </a:rPr>
              <a:t>a1       a2      a3           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00ee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03280" y="5300640"/>
            <a:ext cx="6591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ste un sir de rapoarte egale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6560" y="476280"/>
            <a:ext cx="867744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rush Script MT"/>
              </a:rPr>
              <a:t>Sir de rapoarte egale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rush Script MT"/>
              <a:ea typeface="Brush Script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2:22:05Z</dcterms:created>
  <dc:creator>client</dc:creator>
  <dc:description/>
  <dc:language>en-US</dc:language>
  <cp:lastModifiedBy>client</cp:lastModifiedBy>
  <dcterms:modified xsi:type="dcterms:W3CDTF">2010-05-17T15:06:52Z</dcterms:modified>
  <cp:revision>2</cp:revision>
  <dc:subject/>
  <dc:title>Slide 1</dc:title>
</cp:coreProperties>
</file>