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D23-55CD-41DB-AD4B-7BDE4A17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776-EE28-436E-BBB1-22E956F1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C06-90BF-443E-9F82-91F71758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1E1-66B5-415C-AC9A-833B1948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5A62-1EF1-49D4-94FB-71BE9A1AF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DD90-B908-44B3-AD24-2DD6E930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09AA-7008-4754-B642-13561894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7A1F-AE1F-407E-81F8-49D02EE8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FFA3-31A9-42A4-BBF7-6A178AF8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4774-97AD-4AF7-9356-B3CABB96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8991-6B6E-4FF7-9034-9C86A5CC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76D-829B-4E05-952A-90C7F385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C9C6-A0F4-43CD-AECE-85ED4CCC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4D7F-3E4B-43A3-87AD-776FF935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0446-4F31-4DF2-AB82-31C9569B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E8BE-14DA-48D5-966E-86EA34B1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B594-4B9D-4BA1-9486-4382F7D4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E12-73C3-4ACF-85FE-FD54A043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CC1-1368-4E3D-B564-4C7474CB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A46-9006-4E26-B808-37163DBC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83F-15DF-449D-822F-768D57EA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121-4BA4-4B84-B2CB-8FE74145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F62-C8E7-420D-A80B-75EADE0A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AF5-42FB-4376-AC09-45844C0C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2213-1795-4557-A8AC-55DC69A7B5A1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A82B-872A-4D91-B288-B24D2BFD9144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79640" y="1052640"/>
            <a:ext cx="5473800" cy="250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ush Script MT"/>
              </a:rPr>
              <a:t>Rapoart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ush Script MT"/>
              <a:ea typeface="Brush Script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16360" y="3068640"/>
            <a:ext cx="302400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ush Script MT"/>
              </a:rPr>
              <a:t>Proportii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ush Script MT"/>
              <a:ea typeface="Brush Script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27640" y="5910120"/>
            <a:ext cx="2448000" cy="9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ush Script MT"/>
              </a:rPr>
              <a:t>Cretea Georgian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ush Script MT"/>
              <a:ea typeface="Brush Script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5778360"/>
            <a:ext cx="302400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ush Script MT"/>
              </a:rPr>
              <a:t>Cls  VI  "B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640" y="476280"/>
            <a:ext cx="3311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ee00ee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ush Script MT"/>
              </a:rPr>
              <a:t>a           c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ee00ee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ee00ee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ush Script MT"/>
              </a:rPr>
              <a:t>---- = ----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ee00ee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ee00ee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ush Script MT"/>
              </a:rPr>
              <a:t>b            d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ee00ee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12000" y="4941720"/>
            <a:ext cx="273528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0008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Brush Script MT"/>
              </a:rPr>
              <a:t>a si d= extrem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00080"/>
                  </a:gs>
                  <a:gs pos="100000">
                    <a:srgbClr val="000000"/>
                  </a:gs>
                </a:gsLst>
                <a:lin ang="5400000"/>
              </a:gra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0008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Brush Script MT"/>
              </a:rPr>
              <a:t>b si c= mez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00080"/>
                  </a:gs>
                  <a:gs pos="100000">
                    <a:srgbClr val="000000"/>
                  </a:gs>
                </a:gsLst>
                <a:lin ang="5400000"/>
              </a:gradFill>
              <a:latin typeface="Brush Script MT"/>
              <a:ea typeface="Brush Script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4437000"/>
            <a:ext cx="3672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</a:t>
            </a: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un extrem=    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 </a:t>
            </a: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produsul mezilor 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     </a:t>
            </a: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"supra" 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  </a:t>
            </a: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celalalt extrem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3280" y="907920"/>
            <a:ext cx="36007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</a:t>
            </a: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un mez=        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</a:t>
            </a: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produsul extremilor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  </a:t>
            </a: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"supra"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</a:t>
            </a: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celalalt mez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63640" y="189000"/>
            <a:ext cx="4897440" cy="24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ee00ee"/>
                    </a:gs>
                  </a:gsLst>
                  <a:lin ang="5400000"/>
                </a:gradFill>
                <a:latin typeface="Brush Script MT"/>
              </a:rPr>
              <a:t>Proportii derivat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ee00ee"/>
                  </a:gs>
                </a:gsLst>
                <a:lin ang="5400000"/>
              </a:gradFill>
              <a:latin typeface="Brush Script MT"/>
              <a:ea typeface="Brush Script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924280"/>
            <a:ext cx="221940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a        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---- = ----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c        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84360" y="3716280"/>
            <a:ext cx="32576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Comic Sans MS"/>
              </a:rPr>
              <a:t>(schimband mezii intre ei)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19640" y="4943520"/>
            <a:ext cx="19526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d         c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---- = 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b        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86400" y="5661000"/>
            <a:ext cx="3657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Comic Sans MS"/>
              </a:rPr>
              <a:t>(schimband extremii intre ei)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372360" y="2060640"/>
            <a:ext cx="25905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 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b        d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---- = ----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 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a       c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27640" y="4149720"/>
            <a:ext cx="2733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Comic Sans MS"/>
              </a:rPr>
              <a:t>(inversand rapoartele)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3068640"/>
            <a:ext cx="44956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ee"/>
                </a:solidFill>
                <a:latin typeface="Times New Roman"/>
              </a:rPr>
              <a:t>x1      x2       x3         x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00ee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ee"/>
                </a:solidFill>
                <a:latin typeface="Times New Roman"/>
              </a:rPr>
              <a:t>---- = ---- = ---- = ...=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00ee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ee"/>
                </a:solidFill>
                <a:latin typeface="Times New Roman"/>
              </a:rPr>
              <a:t>a1       a2      a3           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00ee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03280" y="5300640"/>
            <a:ext cx="6591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ste un sir de rapoarte egale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6560" y="476280"/>
            <a:ext cx="867744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rush Script MT"/>
              </a:rPr>
              <a:t>Sir de rapoarte egale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2:22:05Z</dcterms:created>
  <dc:creator>client</dc:creator>
  <dc:description/>
  <dc:language>en-US</dc:language>
  <cp:lastModifiedBy>client</cp:lastModifiedBy>
  <dcterms:modified xsi:type="dcterms:W3CDTF">2010-05-17T15:06:52Z</dcterms:modified>
  <cp:revision>2</cp:revision>
  <dc:subject/>
  <dc:title>Slide 1</dc:title>
</cp:coreProperties>
</file>