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267-A636-4C0A-9A3B-65E781D1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BB8-583A-4FD9-ABE3-BCB89C2F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B4D-EAE2-4132-8EC7-6FFC4F13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8E8-0DEE-4FAA-98E9-DC5624EE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FD5E-6F0F-49B6-81AA-65DDE11F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A55C-4290-4344-8695-E061839C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8D1F-4FCD-4E51-88EA-33A2DCBB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EC02-2173-4657-A550-4816BAA8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E747-6CF9-4716-BA9E-7BC99C8C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7026-A239-4781-9148-78BF7733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7C57-6646-4CDD-A8FC-5C8E659A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890-206D-4F26-B4B2-97531046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F7E0-90F2-4FF9-82A0-E7387C42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1D07-0996-44C5-8EB6-316297A5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2743-A249-4430-9C5A-1F747386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6C8A-5335-4ED2-866A-02404768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5AD6-0217-4901-BEF3-51B9862E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1A24-0891-4EE1-BDF3-31EBE460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2750-A6BA-49B9-80A5-307B7280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C56A-6D05-48F7-82D6-6BFC6D47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8924-5DDE-4E7D-A765-20F7916B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6351C-FF4F-4323-B543-2BFF5572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20A-C5EF-4848-9FFA-A097E441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5986-E9AA-4C81-A4DA-6C3C2DDA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08278-8A93-411A-97EF-29AB027D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E375-1AFC-4678-B48A-1230AE57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0807-F73B-42A3-B65B-9DBCA752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E26E-2DB9-43D1-9907-876730B3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ADBA-420E-45ED-AB7C-CF8FD894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8C49-67DB-4E74-BAA7-248B6A27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80BDD-C772-48FD-840E-7AE04081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A036-7259-4F09-98EA-12DC0056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7CA0B-1BF0-4D8E-AFE8-DE36A5FA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19D-CF59-4CF3-A510-33B68EAD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25DA9-B963-4DB3-99CD-70E6A52D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0B770-DE91-48D3-A02B-5E034725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1DEDA-FD0C-40E5-AD50-11214380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5BACA-E6D2-4299-BA47-9F6DE975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13772-3613-4C3F-B266-A3CDBBC4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B27F-5895-43FD-AD62-098ADD62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E42F-3D4C-4227-8D1A-0827FF75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2C290-9564-4ED1-9FF2-BA86D9E9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A6B6A-C40D-435B-8F22-239D786E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092E9-5489-4A95-A371-763F250F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D6A-1B5E-48A6-A013-9F14B386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8A769-A28F-40D1-9D07-739E7A79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E9233-6B25-45B8-9064-6550F3E0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713F-7192-425D-B769-1C66393F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3EFFD-741C-4702-81AE-BC0A996A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DB3F3-94A5-46BA-8146-B08C7DCD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DBC8F-D942-4E73-A892-1C3C6E85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3C37B-7BCE-4CC1-ABC7-D414D049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4EB44-14F3-46F3-83DA-F4ACA61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EAF53-79C1-4EF0-B1B8-8CD87985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9D567-E17E-4FF1-9AC4-60EF76AE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438-C760-4FA9-97CD-B4250F1E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8AA89-BE48-47B0-B973-A660343E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E58-4855-4081-9C78-859DA59B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1DD-05A9-42D1-A730-828B3CD3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0E4-13FD-4490-B29F-51DE2EF9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6403-781A-4B1C-8656-9D4924754E2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E0DC-FA38-49EA-A43B-80A7FD196EC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3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581C-D065-4E6A-8464-1502A6D5371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4274-2A88-45D4-929C-8C0434C41940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3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1700-AAD0-4F4D-BFC5-23D600E3D55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Trebuchet MS"/>
              </a:rPr>
              <a:t>Bisectoarea.Proprietăţ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677520" cy="71341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3"/>
          <p:cNvSpPr txBox="1"/>
          <p:nvPr/>
        </p:nvSpPr>
        <p:spPr>
          <a:xfrm>
            <a:off x="2200320" y="76320"/>
            <a:ext cx="4429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00"/>
                  </a:solidFill>
                  <a:miter/>
                </a:ln>
                <a:solidFill>
                  <a:srgbClr val="6666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isectoarea</a:t>
            </a:r>
            <a:endParaRPr b="0" lang="en-US" sz="1800" spc="1" strike="noStrike">
              <a:ln w="9360">
                <a:solidFill>
                  <a:srgbClr val="009900"/>
                </a:solidFill>
                <a:miter/>
              </a:ln>
              <a:solidFill>
                <a:srgbClr val="6666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0" name="WordArt 4"/>
          <p:cNvSpPr txBox="1"/>
          <p:nvPr/>
        </p:nvSpPr>
        <p:spPr>
          <a:xfrm>
            <a:off x="3200400" y="1447920"/>
            <a:ext cx="838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Comic Sans MS"/>
              </a:rPr>
              <a:t>Def.: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Comic Sans MS"/>
              <a:ea typeface="Comic Sans MS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633240" y="3106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 flipH="1">
            <a:off x="644400" y="1870200"/>
            <a:ext cx="60984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1243080" y="1887480"/>
            <a:ext cx="12430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066680" y="1447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286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5146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236600" y="1905120"/>
            <a:ext cx="211320" cy="838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2"/>
          <p:cNvSpPr/>
          <p:nvPr/>
        </p:nvSpPr>
        <p:spPr>
          <a:xfrm>
            <a:off x="1143000" y="2133720"/>
            <a:ext cx="152280" cy="75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3"/>
          <p:cNvSpPr/>
          <p:nvPr/>
        </p:nvSpPr>
        <p:spPr>
          <a:xfrm>
            <a:off x="1295280" y="2133720"/>
            <a:ext cx="228600" cy="15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650880" y="2625840"/>
            <a:ext cx="838080" cy="4572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5"/>
          <p:cNvGrpSpPr/>
          <p:nvPr/>
        </p:nvGrpSpPr>
        <p:grpSpPr>
          <a:xfrm>
            <a:off x="779400" y="2784600"/>
            <a:ext cx="152640" cy="174600"/>
            <a:chOff x="779400" y="2784600"/>
            <a:chExt cx="152640" cy="174600"/>
          </a:xfrm>
        </p:grpSpPr>
        <p:sp>
          <p:nvSpPr>
            <p:cNvPr id="242" name="Freeform 16"/>
            <p:cNvSpPr/>
            <p:nvPr/>
          </p:nvSpPr>
          <p:spPr>
            <a:xfrm>
              <a:off x="779400" y="2882880"/>
              <a:ext cx="76320" cy="76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779400" y="2784600"/>
              <a:ext cx="152640" cy="1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8"/>
          <p:cNvGrpSpPr/>
          <p:nvPr/>
        </p:nvGrpSpPr>
        <p:grpSpPr>
          <a:xfrm>
            <a:off x="879480" y="2919240"/>
            <a:ext cx="152280" cy="174600"/>
            <a:chOff x="879480" y="2919240"/>
            <a:chExt cx="152280" cy="174600"/>
          </a:xfrm>
        </p:grpSpPr>
        <p:sp>
          <p:nvSpPr>
            <p:cNvPr id="245" name="Freeform 19"/>
            <p:cNvSpPr/>
            <p:nvPr/>
          </p:nvSpPr>
          <p:spPr>
            <a:xfrm>
              <a:off x="879480" y="3017520"/>
              <a:ext cx="75960" cy="76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"/>
            <p:cNvSpPr/>
            <p:nvPr/>
          </p:nvSpPr>
          <p:spPr>
            <a:xfrm>
              <a:off x="879480" y="2919240"/>
              <a:ext cx="152280" cy="1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21"/>
          <p:cNvSpPr/>
          <p:nvPr/>
        </p:nvSpPr>
        <p:spPr>
          <a:xfrm>
            <a:off x="1295280" y="2590920"/>
            <a:ext cx="1219320" cy="5331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2"/>
          <p:cNvGrpSpPr/>
          <p:nvPr/>
        </p:nvGrpSpPr>
        <p:grpSpPr>
          <a:xfrm>
            <a:off x="1969560" y="2926440"/>
            <a:ext cx="162720" cy="149400"/>
            <a:chOff x="1969560" y="2926440"/>
            <a:chExt cx="162720" cy="149400"/>
          </a:xfrm>
        </p:grpSpPr>
        <p:grpSp>
          <p:nvGrpSpPr>
            <p:cNvPr id="249" name="Group 23"/>
            <p:cNvGrpSpPr/>
            <p:nvPr/>
          </p:nvGrpSpPr>
          <p:grpSpPr>
            <a:xfrm>
              <a:off x="1974240" y="2926440"/>
              <a:ext cx="158040" cy="149400"/>
              <a:chOff x="1974240" y="2926440"/>
              <a:chExt cx="158040" cy="149400"/>
            </a:xfrm>
          </p:grpSpPr>
          <p:sp>
            <p:nvSpPr>
              <p:cNvPr id="250" name="Freeform 24"/>
              <p:cNvSpPr/>
              <p:nvPr/>
            </p:nvSpPr>
            <p:spPr>
              <a:xfrm flipV="1" rot="18970200">
                <a:off x="1974240" y="2994480"/>
                <a:ext cx="75960" cy="306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25"/>
              <p:cNvSpPr/>
              <p:nvPr/>
            </p:nvSpPr>
            <p:spPr>
              <a:xfrm flipV="1" rot="18970200">
                <a:off x="1980000" y="2970000"/>
                <a:ext cx="152280" cy="608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Line 26"/>
            <p:cNvSpPr/>
            <p:nvPr/>
          </p:nvSpPr>
          <p:spPr>
            <a:xfrm flipH="1">
              <a:off x="1969560" y="2980800"/>
              <a:ext cx="151560" cy="3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052000" y="2787840"/>
            <a:ext cx="162360" cy="149400"/>
            <a:chOff x="2052000" y="2787840"/>
            <a:chExt cx="162360" cy="149400"/>
          </a:xfrm>
        </p:grpSpPr>
        <p:grpSp>
          <p:nvGrpSpPr>
            <p:cNvPr id="254" name="Group 28"/>
            <p:cNvGrpSpPr/>
            <p:nvPr/>
          </p:nvGrpSpPr>
          <p:grpSpPr>
            <a:xfrm>
              <a:off x="2056320" y="2787840"/>
              <a:ext cx="158040" cy="149400"/>
              <a:chOff x="2056320" y="2787840"/>
              <a:chExt cx="158040" cy="149400"/>
            </a:xfrm>
          </p:grpSpPr>
          <p:sp>
            <p:nvSpPr>
              <p:cNvPr id="255" name="Freeform 29"/>
              <p:cNvSpPr/>
              <p:nvPr/>
            </p:nvSpPr>
            <p:spPr>
              <a:xfrm flipV="1" rot="18970200">
                <a:off x="2056320" y="2855880"/>
                <a:ext cx="75960" cy="3060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0"/>
              <p:cNvSpPr/>
              <p:nvPr/>
            </p:nvSpPr>
            <p:spPr>
              <a:xfrm flipV="1" rot="18970200">
                <a:off x="2062080" y="2831400"/>
                <a:ext cx="152280" cy="608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Line 31"/>
            <p:cNvSpPr/>
            <p:nvPr/>
          </p:nvSpPr>
          <p:spPr>
            <a:xfrm flipH="1">
              <a:off x="2052000" y="2842560"/>
              <a:ext cx="151560" cy="3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32"/>
          <p:cNvSpPr/>
          <p:nvPr/>
        </p:nvSpPr>
        <p:spPr>
          <a:xfrm>
            <a:off x="4114800" y="13111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Într-un triunghi bisectoarea împarte unghiul în două părţi congr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3"/>
          <p:cNvSpPr/>
          <p:nvPr/>
        </p:nvSpPr>
        <p:spPr>
          <a:xfrm>
            <a:off x="1371600" y="225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4"/>
          <p:cNvGrpSpPr/>
          <p:nvPr/>
        </p:nvGrpSpPr>
        <p:grpSpPr>
          <a:xfrm>
            <a:off x="5410080" y="2971800"/>
            <a:ext cx="4191120" cy="459720"/>
            <a:chOff x="5410080" y="2971800"/>
            <a:chExt cx="4191120" cy="459720"/>
          </a:xfrm>
        </p:grpSpPr>
        <p:sp>
          <p:nvSpPr>
            <p:cNvPr id="261" name="Text Box 35"/>
            <p:cNvSpPr/>
            <p:nvPr/>
          </p:nvSpPr>
          <p:spPr>
            <a:xfrm>
              <a:off x="5410080" y="29718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A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bisectoarea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&lt; B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6"/>
            <p:cNvSpPr/>
            <p:nvPr/>
          </p:nvSpPr>
          <p:spPr>
            <a:xfrm>
              <a:off x="8186760" y="3124080"/>
              <a:ext cx="1440" cy="152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37"/>
          <p:cNvGrpSpPr/>
          <p:nvPr/>
        </p:nvGrpSpPr>
        <p:grpSpPr>
          <a:xfrm>
            <a:off x="5410080" y="3276720"/>
            <a:ext cx="3733920" cy="459720"/>
            <a:chOff x="5410080" y="3276720"/>
            <a:chExt cx="3733920" cy="459720"/>
          </a:xfrm>
        </p:grpSpPr>
        <p:sp>
          <p:nvSpPr>
            <p:cNvPr id="264" name="Text Box 38"/>
            <p:cNvSpPr/>
            <p:nvPr/>
          </p:nvSpPr>
          <p:spPr>
            <a:xfrm>
              <a:off x="5410080" y="32767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B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bisectoarea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&lt; AB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9"/>
            <p:cNvSpPr/>
            <p:nvPr/>
          </p:nvSpPr>
          <p:spPr>
            <a:xfrm>
              <a:off x="8177040" y="3429000"/>
              <a:ext cx="1800" cy="1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40"/>
          <p:cNvGrpSpPr/>
          <p:nvPr/>
        </p:nvGrpSpPr>
        <p:grpSpPr>
          <a:xfrm>
            <a:off x="5410080" y="3581280"/>
            <a:ext cx="3733920" cy="459720"/>
            <a:chOff x="5410080" y="3581280"/>
            <a:chExt cx="3733920" cy="459720"/>
          </a:xfrm>
        </p:grpSpPr>
        <p:sp>
          <p:nvSpPr>
            <p:cNvPr id="267" name="Text Box 41"/>
            <p:cNvSpPr/>
            <p:nvPr/>
          </p:nvSpPr>
          <p:spPr>
            <a:xfrm>
              <a:off x="5410080" y="35812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 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C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lang="hu-HU" sz="2400" spc="-1" strike="noStrike">
                  <a:solidFill>
                    <a:srgbClr val="800000"/>
                  </a:solidFill>
                  <a:latin typeface="Times New Roman"/>
                </a:rPr>
                <a:t>bisectoarea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&lt; AC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42"/>
            <p:cNvSpPr/>
            <p:nvPr/>
          </p:nvSpPr>
          <p:spPr>
            <a:xfrm>
              <a:off x="8170920" y="3733920"/>
              <a:ext cx="1440" cy="15228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43"/>
          <p:cNvGrpSpPr/>
          <p:nvPr/>
        </p:nvGrpSpPr>
        <p:grpSpPr>
          <a:xfrm>
            <a:off x="3276720" y="2971800"/>
            <a:ext cx="2133360" cy="825480"/>
            <a:chOff x="3276720" y="2971800"/>
            <a:chExt cx="2133360" cy="825480"/>
          </a:xfrm>
        </p:grpSpPr>
        <p:sp>
          <p:nvSpPr>
            <p:cNvPr id="270" name="Text Box 44"/>
            <p:cNvSpPr/>
            <p:nvPr/>
          </p:nvSpPr>
          <p:spPr>
            <a:xfrm>
              <a:off x="3276720" y="297180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&lt; BAI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&lt; CA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5"/>
            <p:cNvSpPr/>
            <p:nvPr/>
          </p:nvSpPr>
          <p:spPr>
            <a:xfrm>
              <a:off x="3446640" y="31240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6"/>
            <p:cNvSpPr/>
            <p:nvPr/>
          </p:nvSpPr>
          <p:spPr>
            <a:xfrm>
              <a:off x="4567320" y="31240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47"/>
          <p:cNvGrpSpPr/>
          <p:nvPr/>
        </p:nvGrpSpPr>
        <p:grpSpPr>
          <a:xfrm>
            <a:off x="3276720" y="3581280"/>
            <a:ext cx="2133360" cy="825480"/>
            <a:chOff x="3276720" y="3581280"/>
            <a:chExt cx="2133360" cy="825480"/>
          </a:xfrm>
        </p:grpSpPr>
        <p:sp>
          <p:nvSpPr>
            <p:cNvPr id="274" name="Text Box 48"/>
            <p:cNvSpPr/>
            <p:nvPr/>
          </p:nvSpPr>
          <p:spPr>
            <a:xfrm>
              <a:off x="3276720" y="35812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&lt; ACI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&lt; BC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9"/>
            <p:cNvSpPr/>
            <p:nvPr/>
          </p:nvSpPr>
          <p:spPr>
            <a:xfrm>
              <a:off x="3446640" y="373392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0"/>
            <p:cNvSpPr/>
            <p:nvPr/>
          </p:nvSpPr>
          <p:spPr>
            <a:xfrm>
              <a:off x="4567320" y="373392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51"/>
          <p:cNvSpPr/>
          <p:nvPr/>
        </p:nvSpPr>
        <p:spPr>
          <a:xfrm>
            <a:off x="1905120" y="4206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ro-RO" sz="2400" spc="-1" strike="noStrike">
                <a:solidFill>
                  <a:srgbClr val="800000"/>
                </a:solidFill>
                <a:latin typeface="Times New Roman"/>
              </a:rPr>
              <a:t>intersecţia bisectoar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2"/>
          <p:cNvSpPr/>
          <p:nvPr/>
        </p:nvSpPr>
        <p:spPr>
          <a:xfrm>
            <a:off x="2133720" y="466416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AI </a:t>
            </a:r>
            <a:r>
              <a:rPr b="1" lang="ro-RO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 BI </a:t>
            </a:r>
            <a:r>
              <a:rPr b="1" lang="ro-RO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1" lang="ro-RO" sz="2400" spc="-1" strike="noStrike">
                <a:solidFill>
                  <a:srgbClr val="ffffff"/>
                </a:solidFill>
                <a:latin typeface="Times New Roman"/>
              </a:rPr>
              <a:t> CI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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I</a:t>
            </a:r>
            <a:r>
              <a:rPr b="1" lang="ro-RO" sz="24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- numit </a:t>
            </a: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centrul cercului înscris  triunghi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53"/>
          <p:cNvGrpSpPr/>
          <p:nvPr/>
        </p:nvGrpSpPr>
        <p:grpSpPr>
          <a:xfrm>
            <a:off x="3276720" y="3276720"/>
            <a:ext cx="2133360" cy="825480"/>
            <a:chOff x="3276720" y="3276720"/>
            <a:chExt cx="2133360" cy="825480"/>
          </a:xfrm>
        </p:grpSpPr>
        <p:sp>
          <p:nvSpPr>
            <p:cNvPr id="280" name="Text Box 54"/>
            <p:cNvSpPr/>
            <p:nvPr/>
          </p:nvSpPr>
          <p:spPr>
            <a:xfrm>
              <a:off x="3276720" y="327672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&lt; ABI </a:t>
              </a:r>
              <a:r>
                <a:rPr b="1" lang="hu-H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</a:t>
              </a:r>
              <a:r>
                <a:rPr b="1" lang="hu-HU" sz="2400" spc="-1" strike="noStrike">
                  <a:solidFill>
                    <a:srgbClr val="ffffff"/>
                  </a:solidFill>
                  <a:latin typeface="Times New Roman"/>
                </a:rPr>
                <a:t> &lt; CBI</a:t>
              </a: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5"/>
            <p:cNvSpPr/>
            <p:nvPr/>
          </p:nvSpPr>
          <p:spPr>
            <a:xfrm>
              <a:off x="4567320" y="3429000"/>
              <a:ext cx="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6"/>
            <p:cNvSpPr/>
            <p:nvPr/>
          </p:nvSpPr>
          <p:spPr>
            <a:xfrm>
              <a:off x="3441600" y="344160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09:34:00Z</dcterms:created>
  <dc:creator>Administrator</dc:creator>
  <dc:description/>
  <dc:language>en-US</dc:language>
  <cp:lastModifiedBy>Valentin</cp:lastModifiedBy>
  <dcterms:modified xsi:type="dcterms:W3CDTF">2010-05-25T23:41:49Z</dcterms:modified>
  <cp:revision>5</cp:revision>
  <dc:subject/>
  <dc:title>Grupa I</dc:title>
</cp:coreProperties>
</file>