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9C03-5711-4D11-B80D-1CE67EF4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03E-AB31-4315-AFD8-A1064FDB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250-8293-4E2F-BEFF-FA21EA8E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160-A1B2-465F-B803-BED162C4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5EF1-CFE6-4F3C-A9D6-3A83E193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7CCC-3312-487E-B557-6DD20D16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F1B6-4916-47E2-A2F0-F4DC75AA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77B0-2D37-4D64-911D-5500DB79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CCC2-F0C5-473B-9194-10570912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E8A3-FC36-4076-9078-9D5A10DB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DFAB-06BC-488E-911F-90EAA010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6EBC-28C9-474C-BAC8-FACEEADD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DB3C-5B60-4AE0-BAC0-9DCAF55D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2272-CC9A-4C1C-9111-A772B6E0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6AA9-3478-448A-9549-976F762F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91A4-7FBD-4420-9761-C74BA1A2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28EF-D570-4B82-A2C5-077478FF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C7129-A795-44AD-AE4D-1C52A134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75BE2-4225-4F21-86DE-F54E34A0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011F2-E697-4878-B08F-DD0E8208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385C8-5EDA-44B0-B146-0BAA70A8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1809B-3063-4D60-A1BC-75E2CEC3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E4E-AAAF-41D7-8463-71BAD95F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91C82-7FF3-43DD-8AE5-302A017C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634EC-0DA2-4920-A796-608B1108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D9A8A-C560-4649-89B7-6492BEAF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E72D0-BCC2-4E98-AFD3-91BFF307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4F933-4E95-455F-AAC0-9682E9D6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1817B-3BB1-46F0-A918-0411D46C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4DE82-9C66-4311-B9F1-48DAD63A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A5C58-C6BC-468C-B074-282ED8D6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296C7-BBB1-453D-8216-C1FE7779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A30B2-E8FA-4BF0-9248-E889D9C0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29A-82A6-489E-9328-7A461C6A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D4461-563E-4DC9-8776-2251DC90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78924-665A-4F96-9A3C-324AEF40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762AB-32CA-4ABA-B186-6E52ED41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7C33B-03CF-42EA-A6B3-2D1EA33C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42F70-60AF-4537-8484-19C2859A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B7692-9472-447B-8420-A994B4BA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4B0CA-A2F7-40DA-A6D9-F2584910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8FAF8-2375-48A0-903A-BA61D1D5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E6148-442C-4E77-81D7-3153D46D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93ACE-EA1E-4BF6-B7BC-C1697353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FECC-1A2B-453E-8072-4730678A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9234A-ABC3-40FA-ADBB-288088E4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06CF2-C0F3-4848-848D-45BED6EC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B7602-A6BA-479D-A7DE-4F9F6CCC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69763-EBE3-42BC-9B68-81FC5282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2D614-D361-4070-83A1-F60317F1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FE845-E4ED-472A-810F-4BE71C6D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3913A-297C-4BC5-8C82-5582CE12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1E059-D2A2-4036-BA9B-FDE74D58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6E0E2-8252-41D7-B5E6-3199FF9F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A1497-EB5B-42EB-8B60-E7663DE1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094-DF97-4915-8E15-A4ECFF17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A9FDF-7C26-4537-839F-DDB89EE0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04C-1AF5-47F1-9AD4-4534A36F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5633-FB8E-4B20-8D9C-A993F8DA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8B1-2D5E-4EEB-A653-35D0AAD6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AA3C-02FD-40D1-A8E9-D841073AE1C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AB2C-C041-4A92-B085-CCD29E2E7C5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5898-4355-46D3-B0A0-025A1590857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1D3C-3D1F-404E-9633-49A3B96BE4E9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A349-FB44-4798-A3A5-824C83142B5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Trebuchet MS"/>
              </a:rPr>
              <a:t>Bisectoarea.Proprietăţ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677520" cy="71341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3"/>
          <p:cNvSpPr txBox="1"/>
          <p:nvPr/>
        </p:nvSpPr>
        <p:spPr>
          <a:xfrm>
            <a:off x="2200320" y="76320"/>
            <a:ext cx="4429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66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isectoarea</a:t>
            </a:r>
            <a:endParaRPr b="0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66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WordArt 4"/>
          <p:cNvSpPr txBox="1"/>
          <p:nvPr/>
        </p:nvSpPr>
        <p:spPr>
          <a:xfrm>
            <a:off x="3200400" y="1447920"/>
            <a:ext cx="8380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Comic Sans MS"/>
              </a:rPr>
              <a:t>Def.: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Comic Sans MS"/>
              <a:ea typeface="Comic Sans MS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633240" y="3106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 flipH="1">
            <a:off x="644400" y="1870200"/>
            <a:ext cx="60984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1243080" y="1887480"/>
            <a:ext cx="124308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066680" y="1447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2286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5146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1236600" y="1905120"/>
            <a:ext cx="211320" cy="838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2"/>
          <p:cNvSpPr/>
          <p:nvPr/>
        </p:nvSpPr>
        <p:spPr>
          <a:xfrm>
            <a:off x="1143000" y="2133720"/>
            <a:ext cx="152280" cy="75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3"/>
          <p:cNvSpPr/>
          <p:nvPr/>
        </p:nvSpPr>
        <p:spPr>
          <a:xfrm>
            <a:off x="1295280" y="2133720"/>
            <a:ext cx="228600" cy="152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650880" y="2625840"/>
            <a:ext cx="838080" cy="4572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5"/>
          <p:cNvGrpSpPr/>
          <p:nvPr/>
        </p:nvGrpSpPr>
        <p:grpSpPr>
          <a:xfrm>
            <a:off x="779400" y="2784600"/>
            <a:ext cx="152640" cy="174600"/>
            <a:chOff x="779400" y="2784600"/>
            <a:chExt cx="152640" cy="174600"/>
          </a:xfrm>
        </p:grpSpPr>
        <p:sp>
          <p:nvSpPr>
            <p:cNvPr id="242" name="Freeform 16"/>
            <p:cNvSpPr/>
            <p:nvPr/>
          </p:nvSpPr>
          <p:spPr>
            <a:xfrm>
              <a:off x="779400" y="2882880"/>
              <a:ext cx="76320" cy="76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7"/>
            <p:cNvSpPr/>
            <p:nvPr/>
          </p:nvSpPr>
          <p:spPr>
            <a:xfrm>
              <a:off x="779400" y="2784600"/>
              <a:ext cx="152640" cy="152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8"/>
          <p:cNvGrpSpPr/>
          <p:nvPr/>
        </p:nvGrpSpPr>
        <p:grpSpPr>
          <a:xfrm>
            <a:off x="879480" y="2919240"/>
            <a:ext cx="152280" cy="174600"/>
            <a:chOff x="879480" y="2919240"/>
            <a:chExt cx="152280" cy="174600"/>
          </a:xfrm>
        </p:grpSpPr>
        <p:sp>
          <p:nvSpPr>
            <p:cNvPr id="245" name="Freeform 19"/>
            <p:cNvSpPr/>
            <p:nvPr/>
          </p:nvSpPr>
          <p:spPr>
            <a:xfrm>
              <a:off x="879480" y="3017520"/>
              <a:ext cx="75960" cy="76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"/>
            <p:cNvSpPr/>
            <p:nvPr/>
          </p:nvSpPr>
          <p:spPr>
            <a:xfrm>
              <a:off x="879480" y="2919240"/>
              <a:ext cx="152280" cy="152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21"/>
          <p:cNvSpPr/>
          <p:nvPr/>
        </p:nvSpPr>
        <p:spPr>
          <a:xfrm>
            <a:off x="1295280" y="2590920"/>
            <a:ext cx="1219320" cy="5331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2"/>
          <p:cNvGrpSpPr/>
          <p:nvPr/>
        </p:nvGrpSpPr>
        <p:grpSpPr>
          <a:xfrm>
            <a:off x="1969560" y="2926440"/>
            <a:ext cx="162720" cy="149400"/>
            <a:chOff x="1969560" y="2926440"/>
            <a:chExt cx="162720" cy="149400"/>
          </a:xfrm>
        </p:grpSpPr>
        <p:grpSp>
          <p:nvGrpSpPr>
            <p:cNvPr id="249" name="Group 23"/>
            <p:cNvGrpSpPr/>
            <p:nvPr/>
          </p:nvGrpSpPr>
          <p:grpSpPr>
            <a:xfrm>
              <a:off x="1974240" y="2926440"/>
              <a:ext cx="158040" cy="149400"/>
              <a:chOff x="1974240" y="2926440"/>
              <a:chExt cx="158040" cy="149400"/>
            </a:xfrm>
          </p:grpSpPr>
          <p:sp>
            <p:nvSpPr>
              <p:cNvPr id="250" name="Freeform 24"/>
              <p:cNvSpPr/>
              <p:nvPr/>
            </p:nvSpPr>
            <p:spPr>
              <a:xfrm flipV="1" rot="18970200">
                <a:off x="1974240" y="2994480"/>
                <a:ext cx="75960" cy="306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5"/>
              <p:cNvSpPr/>
              <p:nvPr/>
            </p:nvSpPr>
            <p:spPr>
              <a:xfrm flipV="1" rot="18970200">
                <a:off x="1980000" y="2970000"/>
                <a:ext cx="152280" cy="608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Line 26"/>
            <p:cNvSpPr/>
            <p:nvPr/>
          </p:nvSpPr>
          <p:spPr>
            <a:xfrm flipH="1">
              <a:off x="1969560" y="2980800"/>
              <a:ext cx="151560" cy="3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2052000" y="2787840"/>
            <a:ext cx="162360" cy="149400"/>
            <a:chOff x="2052000" y="2787840"/>
            <a:chExt cx="162360" cy="149400"/>
          </a:xfrm>
        </p:grpSpPr>
        <p:grpSp>
          <p:nvGrpSpPr>
            <p:cNvPr id="254" name="Group 28"/>
            <p:cNvGrpSpPr/>
            <p:nvPr/>
          </p:nvGrpSpPr>
          <p:grpSpPr>
            <a:xfrm>
              <a:off x="2056320" y="2787840"/>
              <a:ext cx="158040" cy="149400"/>
              <a:chOff x="2056320" y="2787840"/>
              <a:chExt cx="158040" cy="149400"/>
            </a:xfrm>
          </p:grpSpPr>
          <p:sp>
            <p:nvSpPr>
              <p:cNvPr id="255" name="Freeform 29"/>
              <p:cNvSpPr/>
              <p:nvPr/>
            </p:nvSpPr>
            <p:spPr>
              <a:xfrm flipV="1" rot="18970200">
                <a:off x="2056320" y="2855880"/>
                <a:ext cx="75960" cy="306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30"/>
              <p:cNvSpPr/>
              <p:nvPr/>
            </p:nvSpPr>
            <p:spPr>
              <a:xfrm flipV="1" rot="18970200">
                <a:off x="2062080" y="2831400"/>
                <a:ext cx="152280" cy="608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Line 31"/>
            <p:cNvSpPr/>
            <p:nvPr/>
          </p:nvSpPr>
          <p:spPr>
            <a:xfrm flipH="1">
              <a:off x="2052000" y="2842560"/>
              <a:ext cx="151560" cy="3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32"/>
          <p:cNvSpPr/>
          <p:nvPr/>
        </p:nvSpPr>
        <p:spPr>
          <a:xfrm>
            <a:off x="4114800" y="13111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Într-un triunghi bisectoarea împarte unghiul în două părţi congr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3"/>
          <p:cNvSpPr/>
          <p:nvPr/>
        </p:nvSpPr>
        <p:spPr>
          <a:xfrm>
            <a:off x="1371600" y="225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4"/>
          <p:cNvGrpSpPr/>
          <p:nvPr/>
        </p:nvGrpSpPr>
        <p:grpSpPr>
          <a:xfrm>
            <a:off x="5410080" y="2971800"/>
            <a:ext cx="4191120" cy="459720"/>
            <a:chOff x="5410080" y="2971800"/>
            <a:chExt cx="4191120" cy="459720"/>
          </a:xfrm>
        </p:grpSpPr>
        <p:sp>
          <p:nvSpPr>
            <p:cNvPr id="261" name="Text Box 35"/>
            <p:cNvSpPr/>
            <p:nvPr/>
          </p:nvSpPr>
          <p:spPr>
            <a:xfrm>
              <a:off x="5410080" y="297180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AI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bisectoarea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&lt; B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6"/>
            <p:cNvSpPr/>
            <p:nvPr/>
          </p:nvSpPr>
          <p:spPr>
            <a:xfrm>
              <a:off x="8186760" y="3124080"/>
              <a:ext cx="1440" cy="152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37"/>
          <p:cNvGrpSpPr/>
          <p:nvPr/>
        </p:nvGrpSpPr>
        <p:grpSpPr>
          <a:xfrm>
            <a:off x="5410080" y="3276720"/>
            <a:ext cx="3733920" cy="459720"/>
            <a:chOff x="5410080" y="3276720"/>
            <a:chExt cx="3733920" cy="459720"/>
          </a:xfrm>
        </p:grpSpPr>
        <p:sp>
          <p:nvSpPr>
            <p:cNvPr id="264" name="Text Box 38"/>
            <p:cNvSpPr/>
            <p:nvPr/>
          </p:nvSpPr>
          <p:spPr>
            <a:xfrm>
              <a:off x="5410080" y="327672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  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BI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bisectoarea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&lt; AB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9"/>
            <p:cNvSpPr/>
            <p:nvPr/>
          </p:nvSpPr>
          <p:spPr>
            <a:xfrm>
              <a:off x="8177040" y="3429000"/>
              <a:ext cx="1800" cy="152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40"/>
          <p:cNvGrpSpPr/>
          <p:nvPr/>
        </p:nvGrpSpPr>
        <p:grpSpPr>
          <a:xfrm>
            <a:off x="5410080" y="3581280"/>
            <a:ext cx="3733920" cy="459720"/>
            <a:chOff x="5410080" y="3581280"/>
            <a:chExt cx="3733920" cy="459720"/>
          </a:xfrm>
        </p:grpSpPr>
        <p:sp>
          <p:nvSpPr>
            <p:cNvPr id="267" name="Text Box 41"/>
            <p:cNvSpPr/>
            <p:nvPr/>
          </p:nvSpPr>
          <p:spPr>
            <a:xfrm>
              <a:off x="5410080" y="358128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  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CI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bisectoarea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&lt; AC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2"/>
            <p:cNvSpPr/>
            <p:nvPr/>
          </p:nvSpPr>
          <p:spPr>
            <a:xfrm>
              <a:off x="8170920" y="3733920"/>
              <a:ext cx="1440" cy="152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43"/>
          <p:cNvGrpSpPr/>
          <p:nvPr/>
        </p:nvGrpSpPr>
        <p:grpSpPr>
          <a:xfrm>
            <a:off x="3276720" y="2971800"/>
            <a:ext cx="2133360" cy="825480"/>
            <a:chOff x="3276720" y="2971800"/>
            <a:chExt cx="2133360" cy="825480"/>
          </a:xfrm>
        </p:grpSpPr>
        <p:sp>
          <p:nvSpPr>
            <p:cNvPr id="270" name="Text Box 44"/>
            <p:cNvSpPr/>
            <p:nvPr/>
          </p:nvSpPr>
          <p:spPr>
            <a:xfrm>
              <a:off x="3276720" y="297180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&lt; BAI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&lt; CAI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5"/>
            <p:cNvSpPr/>
            <p:nvPr/>
          </p:nvSpPr>
          <p:spPr>
            <a:xfrm>
              <a:off x="3446640" y="312408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6"/>
            <p:cNvSpPr/>
            <p:nvPr/>
          </p:nvSpPr>
          <p:spPr>
            <a:xfrm>
              <a:off x="4567320" y="312408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47"/>
          <p:cNvGrpSpPr/>
          <p:nvPr/>
        </p:nvGrpSpPr>
        <p:grpSpPr>
          <a:xfrm>
            <a:off x="3276720" y="3581280"/>
            <a:ext cx="2133360" cy="825480"/>
            <a:chOff x="3276720" y="3581280"/>
            <a:chExt cx="2133360" cy="825480"/>
          </a:xfrm>
        </p:grpSpPr>
        <p:sp>
          <p:nvSpPr>
            <p:cNvPr id="274" name="Text Box 48"/>
            <p:cNvSpPr/>
            <p:nvPr/>
          </p:nvSpPr>
          <p:spPr>
            <a:xfrm>
              <a:off x="3276720" y="358128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&lt; ACI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&lt; BCI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9"/>
            <p:cNvSpPr/>
            <p:nvPr/>
          </p:nvSpPr>
          <p:spPr>
            <a:xfrm>
              <a:off x="3446640" y="373392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50"/>
            <p:cNvSpPr/>
            <p:nvPr/>
          </p:nvSpPr>
          <p:spPr>
            <a:xfrm>
              <a:off x="4567320" y="373392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51"/>
          <p:cNvSpPr/>
          <p:nvPr/>
        </p:nvSpPr>
        <p:spPr>
          <a:xfrm>
            <a:off x="1905120" y="4206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o-RO" sz="2400" spc="-1" strike="noStrike">
                <a:solidFill>
                  <a:srgbClr val="800000"/>
                </a:solidFill>
                <a:latin typeface="Times New Roman"/>
              </a:rPr>
              <a:t>intersecţia bisectoare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2"/>
          <p:cNvSpPr/>
          <p:nvPr/>
        </p:nvSpPr>
        <p:spPr>
          <a:xfrm>
            <a:off x="2133720" y="466416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AI </a:t>
            </a:r>
            <a:r>
              <a:rPr b="1" lang="ro-RO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 BI </a:t>
            </a:r>
            <a:r>
              <a:rPr b="1" lang="ro-RO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 CI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I</a:t>
            </a:r>
            <a:r>
              <a:rPr b="1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- numit </a:t>
            </a: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centrul cercului înscris  triunghi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3"/>
          <p:cNvGrpSpPr/>
          <p:nvPr/>
        </p:nvGrpSpPr>
        <p:grpSpPr>
          <a:xfrm>
            <a:off x="3276720" y="3276720"/>
            <a:ext cx="2133360" cy="825480"/>
            <a:chOff x="3276720" y="3276720"/>
            <a:chExt cx="2133360" cy="825480"/>
          </a:xfrm>
        </p:grpSpPr>
        <p:sp>
          <p:nvSpPr>
            <p:cNvPr id="280" name="Text Box 54"/>
            <p:cNvSpPr/>
            <p:nvPr/>
          </p:nvSpPr>
          <p:spPr>
            <a:xfrm>
              <a:off x="3276720" y="327672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&lt; ABI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&lt; CBI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5"/>
            <p:cNvSpPr/>
            <p:nvPr/>
          </p:nvSpPr>
          <p:spPr>
            <a:xfrm>
              <a:off x="4567320" y="342900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56"/>
            <p:cNvSpPr/>
            <p:nvPr/>
          </p:nvSpPr>
          <p:spPr>
            <a:xfrm>
              <a:off x="3441600" y="344160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09:34:00Z</dcterms:created>
  <dc:creator>Administrator</dc:creator>
  <dc:description/>
  <dc:language>en-US</dc:language>
  <cp:lastModifiedBy>Valentin</cp:lastModifiedBy>
  <dcterms:modified xsi:type="dcterms:W3CDTF">2010-05-25T23:41:49Z</dcterms:modified>
  <cp:revision>5</cp:revision>
  <dc:subject/>
  <dc:title>Grupa I</dc:title>
</cp:coreProperties>
</file>