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430-A7C4-4513-8155-7257ACF0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9B4E-384A-428E-BADB-D5EF353D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BFC-902A-4779-B441-7C11A8D7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917-ACB0-46B2-8D9B-422A1046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3F7D-CAAB-402D-9845-053BE81F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C3A1-0B67-4036-933E-6864C249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6790-31AA-4A41-AF56-0AC00194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40D3-F142-40E8-A235-D476C5BB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48C4-8F13-4964-A8F6-22BC39A3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BF88-04EA-4177-AE19-23492C6B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2421-B8F6-4F7F-BAD0-D12EA634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8D4-31F4-45CB-B996-DDD9E445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2500-AC12-48EF-95B0-634D6C2D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B06E-74D3-44E4-8D3A-9C1F86D0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4D61-700D-43B9-B8AC-6EE0815C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4A76-7611-4D87-B912-7261093F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1F3E-1B1F-4817-964F-D789FF1E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BC04E-A810-4577-9368-AAF14617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1FD0F-47E3-49C5-BCBB-6BA50041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44C0-6297-499A-B3EC-40FDE2FC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1CD63-4946-4F4C-B8C3-75F5BD14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6B6B-7E48-4156-8C31-8BFD3636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13E-9638-4017-9CC5-C8D65C60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19F3-6204-4503-B4BE-F17F804E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94022-84DE-44E7-8AC8-68897E8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0DCA-F138-4938-AC09-4EA76935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2ECF-EB67-4342-A79A-B193E50C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E84FD-7B48-400E-AB91-55E3E783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1F033-134E-48D9-A814-F8510F89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B8A25-0586-40AC-A78B-C6FF9C40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D75D9-F729-4733-9A00-AAA2ECE0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02374-9C31-4606-BE03-A7E943B9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4A4AE-A9D5-4D54-8D28-FE215C00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689-78ED-4F28-9A3E-BA9696E5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288FE-4C07-472A-8D8E-E019B488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367CE-4063-426C-8DB6-39C4869B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44291-A7B2-42CF-8F7B-63BDCCC7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5675-CFCE-4CB6-A777-38E1891C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F880-4C47-4BB1-8796-AAF9724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5623-201A-4E3B-94E0-61A8A719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943DE-72B7-4420-ABBE-EA5F033E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9C756-162F-4B3F-A761-B81021C1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7C86-AAD2-45EB-92EA-E13165D4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7FA20-3185-4E2A-BA01-84FCC64D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71D-3F56-417D-A1CD-599BB5B2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C7C4D-82FC-4145-89E8-9101D2F3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C311C-2935-44FC-9538-A494DFB1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E85D2-BB62-4FD5-8B31-0745FDFB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54FAC-40F4-4E29-9D7D-F48360B6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F72B4-9656-47DE-BAFB-541C9331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2B57C-E1D2-411D-8609-75C28372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F20A6-5A56-4B51-9FA6-C8BC3708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BB2B4-2F8C-4C18-A353-1DD60B66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6769D-C36A-4CC0-B60E-31847F2C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2DD3B-4BB4-49F1-9627-349FEE7F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FD6-94EB-4B49-B162-8D3CA259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C8A9F-2EF0-4031-B3B1-AEA24516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03A-4C9B-492D-B869-AE2F90D4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D0B-FDBD-4642-8309-C1A2FAEE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53A9-7D06-4E2F-8FBA-A394F209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3F47-9A25-4B8D-9644-6117B024F19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9B41-7472-409E-9A74-295996C362B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EB3D-5D97-494C-A0F1-9B63FC0C5BA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8494-1D02-4B8D-BBA9-3791855C485C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8826-F7C8-4B49-AEA6-FCE5428D967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Trebuchet MS"/>
              </a:rPr>
              <a:t>Bisectoarea.Proprietăţ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677520" cy="71341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3"/>
          <p:cNvSpPr txBox="1"/>
          <p:nvPr/>
        </p:nvSpPr>
        <p:spPr>
          <a:xfrm>
            <a:off x="2200320" y="76320"/>
            <a:ext cx="442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isectoarea</a:t>
            </a:r>
            <a:endParaRPr b="0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3200400" y="1447920"/>
            <a:ext cx="838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Comic Sans MS"/>
              </a:rPr>
              <a:t>Def.: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Comic Sans MS"/>
              <a:ea typeface="Comic Sans MS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633240" y="3106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 flipH="1">
            <a:off x="644400" y="1870200"/>
            <a:ext cx="60984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1243080" y="1887480"/>
            <a:ext cx="12430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066680" y="1447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286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5146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236600" y="1905120"/>
            <a:ext cx="211320" cy="838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2"/>
          <p:cNvSpPr/>
          <p:nvPr/>
        </p:nvSpPr>
        <p:spPr>
          <a:xfrm>
            <a:off x="1143000" y="2133720"/>
            <a:ext cx="152280" cy="75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3"/>
          <p:cNvSpPr/>
          <p:nvPr/>
        </p:nvSpPr>
        <p:spPr>
          <a:xfrm>
            <a:off x="1295280" y="2133720"/>
            <a:ext cx="228600" cy="152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650880" y="2625840"/>
            <a:ext cx="838080" cy="4572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5"/>
          <p:cNvGrpSpPr/>
          <p:nvPr/>
        </p:nvGrpSpPr>
        <p:grpSpPr>
          <a:xfrm>
            <a:off x="779400" y="2784600"/>
            <a:ext cx="152640" cy="174600"/>
            <a:chOff x="779400" y="2784600"/>
            <a:chExt cx="152640" cy="174600"/>
          </a:xfrm>
        </p:grpSpPr>
        <p:sp>
          <p:nvSpPr>
            <p:cNvPr id="242" name="Freeform 16"/>
            <p:cNvSpPr/>
            <p:nvPr/>
          </p:nvSpPr>
          <p:spPr>
            <a:xfrm>
              <a:off x="779400" y="2882880"/>
              <a:ext cx="76320" cy="76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779400" y="2784600"/>
              <a:ext cx="152640" cy="1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8"/>
          <p:cNvGrpSpPr/>
          <p:nvPr/>
        </p:nvGrpSpPr>
        <p:grpSpPr>
          <a:xfrm>
            <a:off x="879480" y="2919240"/>
            <a:ext cx="152280" cy="174600"/>
            <a:chOff x="879480" y="2919240"/>
            <a:chExt cx="152280" cy="174600"/>
          </a:xfrm>
        </p:grpSpPr>
        <p:sp>
          <p:nvSpPr>
            <p:cNvPr id="245" name="Freeform 19"/>
            <p:cNvSpPr/>
            <p:nvPr/>
          </p:nvSpPr>
          <p:spPr>
            <a:xfrm>
              <a:off x="879480" y="3017520"/>
              <a:ext cx="75960" cy="76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879480" y="2919240"/>
              <a:ext cx="152280" cy="1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21"/>
          <p:cNvSpPr/>
          <p:nvPr/>
        </p:nvSpPr>
        <p:spPr>
          <a:xfrm>
            <a:off x="1295280" y="2590920"/>
            <a:ext cx="1219320" cy="5331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2"/>
          <p:cNvGrpSpPr/>
          <p:nvPr/>
        </p:nvGrpSpPr>
        <p:grpSpPr>
          <a:xfrm>
            <a:off x="1969560" y="2926440"/>
            <a:ext cx="162720" cy="149400"/>
            <a:chOff x="1969560" y="2926440"/>
            <a:chExt cx="162720" cy="149400"/>
          </a:xfrm>
        </p:grpSpPr>
        <p:grpSp>
          <p:nvGrpSpPr>
            <p:cNvPr id="249" name="Group 23"/>
            <p:cNvGrpSpPr/>
            <p:nvPr/>
          </p:nvGrpSpPr>
          <p:grpSpPr>
            <a:xfrm>
              <a:off x="1974240" y="2926440"/>
              <a:ext cx="158040" cy="149400"/>
              <a:chOff x="1974240" y="2926440"/>
              <a:chExt cx="158040" cy="149400"/>
            </a:xfrm>
          </p:grpSpPr>
          <p:sp>
            <p:nvSpPr>
              <p:cNvPr id="250" name="Freeform 24"/>
              <p:cNvSpPr/>
              <p:nvPr/>
            </p:nvSpPr>
            <p:spPr>
              <a:xfrm flipV="1" rot="18970200">
                <a:off x="1974240" y="2994480"/>
                <a:ext cx="75960" cy="306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5"/>
              <p:cNvSpPr/>
              <p:nvPr/>
            </p:nvSpPr>
            <p:spPr>
              <a:xfrm flipV="1" rot="18970200">
                <a:off x="1980000" y="2970000"/>
                <a:ext cx="152280" cy="608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Line 26"/>
            <p:cNvSpPr/>
            <p:nvPr/>
          </p:nvSpPr>
          <p:spPr>
            <a:xfrm flipH="1">
              <a:off x="1969560" y="2980800"/>
              <a:ext cx="151560" cy="3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052000" y="2787840"/>
            <a:ext cx="162360" cy="149400"/>
            <a:chOff x="2052000" y="2787840"/>
            <a:chExt cx="162360" cy="149400"/>
          </a:xfrm>
        </p:grpSpPr>
        <p:grpSp>
          <p:nvGrpSpPr>
            <p:cNvPr id="254" name="Group 28"/>
            <p:cNvGrpSpPr/>
            <p:nvPr/>
          </p:nvGrpSpPr>
          <p:grpSpPr>
            <a:xfrm>
              <a:off x="2056320" y="2787840"/>
              <a:ext cx="158040" cy="149400"/>
              <a:chOff x="2056320" y="2787840"/>
              <a:chExt cx="158040" cy="149400"/>
            </a:xfrm>
          </p:grpSpPr>
          <p:sp>
            <p:nvSpPr>
              <p:cNvPr id="255" name="Freeform 29"/>
              <p:cNvSpPr/>
              <p:nvPr/>
            </p:nvSpPr>
            <p:spPr>
              <a:xfrm flipV="1" rot="18970200">
                <a:off x="2056320" y="2855880"/>
                <a:ext cx="75960" cy="306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0"/>
              <p:cNvSpPr/>
              <p:nvPr/>
            </p:nvSpPr>
            <p:spPr>
              <a:xfrm flipV="1" rot="18970200">
                <a:off x="2062080" y="2831400"/>
                <a:ext cx="152280" cy="608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Line 31"/>
            <p:cNvSpPr/>
            <p:nvPr/>
          </p:nvSpPr>
          <p:spPr>
            <a:xfrm flipH="1">
              <a:off x="2052000" y="2842560"/>
              <a:ext cx="151560" cy="3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32"/>
          <p:cNvSpPr/>
          <p:nvPr/>
        </p:nvSpPr>
        <p:spPr>
          <a:xfrm>
            <a:off x="4114800" y="13111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Într-un triunghi bisectoarea împarte unghiul în două părţi congr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3"/>
          <p:cNvSpPr/>
          <p:nvPr/>
        </p:nvSpPr>
        <p:spPr>
          <a:xfrm>
            <a:off x="1371600" y="225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4"/>
          <p:cNvGrpSpPr/>
          <p:nvPr/>
        </p:nvGrpSpPr>
        <p:grpSpPr>
          <a:xfrm>
            <a:off x="5410080" y="2971800"/>
            <a:ext cx="4191120" cy="459720"/>
            <a:chOff x="5410080" y="2971800"/>
            <a:chExt cx="4191120" cy="459720"/>
          </a:xfrm>
        </p:grpSpPr>
        <p:sp>
          <p:nvSpPr>
            <p:cNvPr id="261" name="Text Box 35"/>
            <p:cNvSpPr/>
            <p:nvPr/>
          </p:nvSpPr>
          <p:spPr>
            <a:xfrm>
              <a:off x="5410080" y="29718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A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bisectoarea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&lt; B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6"/>
            <p:cNvSpPr/>
            <p:nvPr/>
          </p:nvSpPr>
          <p:spPr>
            <a:xfrm>
              <a:off x="8186760" y="3124080"/>
              <a:ext cx="1440" cy="152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7"/>
          <p:cNvGrpSpPr/>
          <p:nvPr/>
        </p:nvGrpSpPr>
        <p:grpSpPr>
          <a:xfrm>
            <a:off x="5410080" y="3276720"/>
            <a:ext cx="3733920" cy="459720"/>
            <a:chOff x="5410080" y="3276720"/>
            <a:chExt cx="3733920" cy="459720"/>
          </a:xfrm>
        </p:grpSpPr>
        <p:sp>
          <p:nvSpPr>
            <p:cNvPr id="264" name="Text Box 38"/>
            <p:cNvSpPr/>
            <p:nvPr/>
          </p:nvSpPr>
          <p:spPr>
            <a:xfrm>
              <a:off x="5410080" y="32767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B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bisectoarea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&lt; A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9"/>
            <p:cNvSpPr/>
            <p:nvPr/>
          </p:nvSpPr>
          <p:spPr>
            <a:xfrm>
              <a:off x="8177040" y="3429000"/>
              <a:ext cx="1800" cy="1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40"/>
          <p:cNvGrpSpPr/>
          <p:nvPr/>
        </p:nvGrpSpPr>
        <p:grpSpPr>
          <a:xfrm>
            <a:off x="5410080" y="3581280"/>
            <a:ext cx="3733920" cy="459720"/>
            <a:chOff x="5410080" y="3581280"/>
            <a:chExt cx="3733920" cy="459720"/>
          </a:xfrm>
        </p:grpSpPr>
        <p:sp>
          <p:nvSpPr>
            <p:cNvPr id="267" name="Text Box 41"/>
            <p:cNvSpPr/>
            <p:nvPr/>
          </p:nvSpPr>
          <p:spPr>
            <a:xfrm>
              <a:off x="5410080" y="35812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C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bisectoarea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&lt; AC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2"/>
            <p:cNvSpPr/>
            <p:nvPr/>
          </p:nvSpPr>
          <p:spPr>
            <a:xfrm>
              <a:off x="8170920" y="3733920"/>
              <a:ext cx="1440" cy="1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43"/>
          <p:cNvGrpSpPr/>
          <p:nvPr/>
        </p:nvGrpSpPr>
        <p:grpSpPr>
          <a:xfrm>
            <a:off x="3276720" y="2971800"/>
            <a:ext cx="2133360" cy="825480"/>
            <a:chOff x="3276720" y="2971800"/>
            <a:chExt cx="2133360" cy="825480"/>
          </a:xfrm>
        </p:grpSpPr>
        <p:sp>
          <p:nvSpPr>
            <p:cNvPr id="270" name="Text Box 44"/>
            <p:cNvSpPr/>
            <p:nvPr/>
          </p:nvSpPr>
          <p:spPr>
            <a:xfrm>
              <a:off x="3276720" y="297180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&lt; BAI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&lt; CA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5"/>
            <p:cNvSpPr/>
            <p:nvPr/>
          </p:nvSpPr>
          <p:spPr>
            <a:xfrm>
              <a:off x="3446640" y="312408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6"/>
            <p:cNvSpPr/>
            <p:nvPr/>
          </p:nvSpPr>
          <p:spPr>
            <a:xfrm>
              <a:off x="4567320" y="312408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7"/>
          <p:cNvGrpSpPr/>
          <p:nvPr/>
        </p:nvGrpSpPr>
        <p:grpSpPr>
          <a:xfrm>
            <a:off x="3276720" y="3581280"/>
            <a:ext cx="2133360" cy="825480"/>
            <a:chOff x="3276720" y="3581280"/>
            <a:chExt cx="2133360" cy="825480"/>
          </a:xfrm>
        </p:grpSpPr>
        <p:sp>
          <p:nvSpPr>
            <p:cNvPr id="274" name="Text Box 48"/>
            <p:cNvSpPr/>
            <p:nvPr/>
          </p:nvSpPr>
          <p:spPr>
            <a:xfrm>
              <a:off x="3276720" y="35812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&lt; ACI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&lt; BC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9"/>
            <p:cNvSpPr/>
            <p:nvPr/>
          </p:nvSpPr>
          <p:spPr>
            <a:xfrm>
              <a:off x="3446640" y="373392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0"/>
            <p:cNvSpPr/>
            <p:nvPr/>
          </p:nvSpPr>
          <p:spPr>
            <a:xfrm>
              <a:off x="4567320" y="373392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51"/>
          <p:cNvSpPr/>
          <p:nvPr/>
        </p:nvSpPr>
        <p:spPr>
          <a:xfrm>
            <a:off x="1905120" y="4206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o-RO" sz="2400" spc="-1" strike="noStrike">
                <a:solidFill>
                  <a:srgbClr val="800000"/>
                </a:solidFill>
                <a:latin typeface="Times New Roman"/>
              </a:rPr>
              <a:t>intersecţia bisectoar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2"/>
          <p:cNvSpPr/>
          <p:nvPr/>
        </p:nvSpPr>
        <p:spPr>
          <a:xfrm>
            <a:off x="2133720" y="466416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AI </a:t>
            </a:r>
            <a:r>
              <a:rPr b="1" lang="ro-RO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 BI </a:t>
            </a:r>
            <a:r>
              <a:rPr b="1" lang="ro-RO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 CI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1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- numit 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centrul cercului înscris  triunghi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3"/>
          <p:cNvGrpSpPr/>
          <p:nvPr/>
        </p:nvGrpSpPr>
        <p:grpSpPr>
          <a:xfrm>
            <a:off x="3276720" y="3276720"/>
            <a:ext cx="2133360" cy="825480"/>
            <a:chOff x="3276720" y="3276720"/>
            <a:chExt cx="2133360" cy="825480"/>
          </a:xfrm>
        </p:grpSpPr>
        <p:sp>
          <p:nvSpPr>
            <p:cNvPr id="280" name="Text Box 54"/>
            <p:cNvSpPr/>
            <p:nvPr/>
          </p:nvSpPr>
          <p:spPr>
            <a:xfrm>
              <a:off x="3276720" y="327672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&lt; ABI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&lt; CB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5"/>
            <p:cNvSpPr/>
            <p:nvPr/>
          </p:nvSpPr>
          <p:spPr>
            <a:xfrm>
              <a:off x="4567320" y="342900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56"/>
            <p:cNvSpPr/>
            <p:nvPr/>
          </p:nvSpPr>
          <p:spPr>
            <a:xfrm>
              <a:off x="3441600" y="344160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09:34:00Z</dcterms:created>
  <dc:creator>Administrator</dc:creator>
  <dc:description/>
  <dc:language>en-US</dc:language>
  <cp:lastModifiedBy>Valentin</cp:lastModifiedBy>
  <dcterms:modified xsi:type="dcterms:W3CDTF">2010-05-25T23:41:49Z</dcterms:modified>
  <cp:revision>5</cp:revision>
  <dc:subject/>
  <dc:title>Grupa I</dc:title>
</cp:coreProperties>
</file>